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32F-84E5-4BB8-8AAF-EBE2C9A7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11B-4B31-476C-8E9F-EAEE9AC6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BB6-7217-402D-B55A-C7E4181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322-F939-4429-A983-7496548C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C542-1746-449E-AADA-099B31A2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951-E088-4EC1-A12C-B264819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707-7097-437E-8346-A557365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679-7397-4B2D-86D6-13C7E13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FCCD-97F5-43DE-AB00-C1B7F138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5D9F-1072-45A0-A420-3A534FE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F4C-61C4-4DE6-915E-0E9E7B7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A8B-4A3C-4455-9478-02C11607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26E-C5DE-4F16-A1EB-80ED216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51CB-C49D-4BD0-A05B-48ADEA1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185-EA1D-43B8-9DCF-0B842D8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4CE0-BC32-4366-B30D-8ABDE3E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BD6D-3710-4E87-A0ED-CE374729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3D88-4EBA-4386-9B12-01CAE913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38C5-7073-416F-903D-CA625E9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6887-FB11-4980-9EF4-7D92C72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DF3F-0C81-46AF-BD95-0716B6E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2EA5-F0DB-434C-9C89-C5516C9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CD1-45F4-440D-B781-DF27A8C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462A-E9C7-483B-A02A-C6133EC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6B58-C2AE-4D95-AA14-87648DD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EB3B-5DD6-43BC-A264-667548C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E9AB-3762-40C9-B63C-EA4E0E6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41F5-A65D-4C69-80C0-79C31CD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4E81-69C0-4FB8-83C5-42AB339F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89FC-C2FB-4600-B203-F5917244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E071-B063-449F-A46D-CBEE8997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8F9C-9562-4DA3-B520-4E9CF628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354C-9E28-40F1-A753-A9380B6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143-A4F6-4126-A46C-5743C81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C7D0-FE6D-464A-B602-817FCCC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0E33-DD90-4F15-8318-C3380704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8B263-D3AC-4121-9AC0-787F99BE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5594-9446-4720-A444-B4666D3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C03B-C8ED-4463-B91C-09D2D42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4B92-60B4-44A3-BFC2-99EAB24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E04C-527D-4A38-B026-F401658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870B-B747-4871-8FDA-3C979321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CF34-364B-4DFF-B364-8E25CA8D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9F159-FD8E-4D9A-AFBA-074AF45B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DAC-1630-4D3C-AADA-914FD09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C742-0F21-4F41-839C-C3E0E32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ABED-AFEE-4ED7-96BE-EF2A5BB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53839-7706-4530-B676-32A23DEF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74F0-14F1-4ED0-9810-06C0068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58C5-AAAA-4EAE-8916-112E5AC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D71B-4A59-4F17-9C22-B88D1FF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3FEA-764E-4A34-A5C9-56C4C67C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D5A1-A4AB-4870-8420-98DBC04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51AB3-2EDC-4D32-B84D-2AF2CA90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C7A6-1AEB-4A59-860B-4B4C8264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6FF-6376-43B9-BE02-A5F89C2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D156-EEE9-4DFA-9FD1-679C0AC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59C-9ACA-43AB-92EA-CD6FA03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FC1-D0D2-48C8-8D9F-0452333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C57-CCE6-41CB-B188-EC51000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947-D138-4CFC-9608-11317704CB06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15" descr="Untitled-2.png"/>
          <p:cNvPicPr/>
          <p:nvPr/>
        </p:nvPicPr>
        <p:blipFill>
          <a:blip r:embed="rId5"/>
          <a:stretch/>
        </p:blipFill>
        <p:spPr>
          <a:xfrm>
            <a:off x="8229600" y="6324480"/>
            <a:ext cx="4492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15" descr="Untitled-2.png"/>
          <p:cNvPicPr/>
          <p:nvPr/>
        </p:nvPicPr>
        <p:blipFill>
          <a:blip r:embed="rId5"/>
          <a:stretch/>
        </p:blipFill>
        <p:spPr>
          <a:xfrm>
            <a:off x="8229600" y="6324480"/>
            <a:ext cx="449280" cy="20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558-5E94-453D-9EA2-A2E20A014215}" type="slidenum"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15" descr="Untitled-2.png"/>
          <p:cNvPicPr/>
          <p:nvPr/>
        </p:nvPicPr>
        <p:blipFill>
          <a:blip r:embed="rId5"/>
          <a:stretch/>
        </p:blipFill>
        <p:spPr>
          <a:xfrm>
            <a:off x="8229600" y="6324480"/>
            <a:ext cx="449280" cy="20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FDA-BAD4-480E-AB3E-791B7CB2A036}" type="slidenum"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238-069B-467A-8A26-0C6B77945A43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7" name="Picture 15" descr="Untitled-2.png"/>
          <p:cNvPicPr/>
          <p:nvPr/>
        </p:nvPicPr>
        <p:blipFill>
          <a:blip r:embed="rId5"/>
          <a:stretch/>
        </p:blipFill>
        <p:spPr>
          <a:xfrm>
            <a:off x="8229600" y="6324480"/>
            <a:ext cx="449280" cy="208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A5D2-3230-4B79-8382-19133229B5BF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hort Review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rrays, Pointers and Structur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513-6CAF-446C-B87A-11940ABEE661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ulti-Dimensional Array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2286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506520"/>
                <a:gridCol w="1665360"/>
                <a:gridCol w="3039840"/>
                <a:gridCol w="608040"/>
                <a:gridCol w="2257560"/>
              </a:tblGrid>
              <a:tr h="657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Program : Multidimensional Ar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* Filename: MultiDim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Description: Multidimensional Array samp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r: Pedro de la Cru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Written: May 29,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    2   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2    3   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3    4  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</a:tr>
              <a:tr h="26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clude&lt;stdio.h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(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int table[3][3][4]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/*Plane 0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0,1,2,3}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,3,4}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2,3,4,5}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 plane, row, col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plane=0;plane&lt;1; plane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row=0; row&lt;3; row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col=0; col&lt;4; col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f(“\t%d”, table[plane][row][col]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f(“\n”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Arrays and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Closely related in 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char p [10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  = = &amp;p[0] </a:t>
            </a:r>
            <a:r>
              <a:rPr b="0" lang="en-PH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TR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Example: one – dimensional arr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int *p, i [10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 = 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 [5] = 100; /* assign using index *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*(p + 5) = 100;/*assign using pointer arithmetic *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Arrays and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Example: two dimensional arrays assuming that </a:t>
            </a:r>
            <a:r>
              <a:rPr b="1" lang="en-PH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is a 10 by 10 arr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= = &amp;a [0] [0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[j] [k] is equivalent to *((*a) + (j row length) + 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Allocated Array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In C, you can dynamically allocate and free memory by using the standard library routines </a:t>
            </a:r>
            <a:r>
              <a:rPr b="1" lang="en-PH" sz="2600" spc="-1" strike="noStrike">
                <a:solidFill>
                  <a:srgbClr val="000000"/>
                </a:solidFill>
                <a:latin typeface="Constantia"/>
              </a:rPr>
              <a:t>malloc( )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, which allocates memory and returns a void * pointer to the start of it, and </a:t>
            </a:r>
            <a:r>
              <a:rPr b="1" lang="en-PH" sz="2600" spc="-1" strike="noStrike">
                <a:solidFill>
                  <a:srgbClr val="000000"/>
                </a:solidFill>
                <a:latin typeface="Constantia"/>
              </a:rPr>
              <a:t>free( )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which returns previously allocated memory to the heap for possible reu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/* allocating 1000 bytes of memory *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char *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 = malloc(10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/* Print a string backwards using dynamic allocation. *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# include &lt;string.h&g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int main (void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char *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int 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s = malloc (80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if (!s) {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printf (“memory request failed\n”) 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gets (s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for (t= strlen (s) – 1; t &gt; = 0; t - - ) printf ( “%c”,  s [t] 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free (s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eatwork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 a program that will save the following data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2286000" y="25909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What is a Pointer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is a special type of variable that contains a memory address which could be used to acc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295280" y="3124080"/>
          <a:ext cx="2743200" cy="32799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x=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643280" y="3124080"/>
          <a:ext cx="2824200" cy="3276720"/>
        </p:xfrm>
        <a:graphic>
          <a:graphicData uri="http://schemas.openxmlformats.org/drawingml/2006/table">
            <a:tbl>
              <a:tblPr/>
              <a:tblGrid>
                <a:gridCol w="2824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inter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9" name="Group 32"/>
          <p:cNvGrpSpPr/>
          <p:nvPr/>
        </p:nvGrpSpPr>
        <p:grpSpPr>
          <a:xfrm>
            <a:off x="1371600" y="3657600"/>
            <a:ext cx="6172200" cy="2611800"/>
            <a:chOff x="1371600" y="3657600"/>
            <a:chExt cx="6172200" cy="2611800"/>
          </a:xfrm>
        </p:grpSpPr>
        <p:sp>
          <p:nvSpPr>
            <p:cNvPr id="420" name="Text Box 47"/>
            <p:cNvSpPr/>
            <p:nvPr/>
          </p:nvSpPr>
          <p:spPr>
            <a:xfrm>
              <a:off x="6172200" y="4876920"/>
              <a:ext cx="1066680" cy="368280"/>
            </a:xfrm>
            <a:prstGeom prst="rect">
              <a:avLst/>
            </a:prstGeom>
            <a:solidFill>
              <a:srgbClr val="d4d4d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=FF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31"/>
            <p:cNvGrpSpPr/>
            <p:nvPr/>
          </p:nvGrpSpPr>
          <p:grpSpPr>
            <a:xfrm>
              <a:off x="1371600" y="3809880"/>
              <a:ext cx="6172200" cy="2459520"/>
              <a:chOff x="1371600" y="3809880"/>
              <a:chExt cx="6172200" cy="2459520"/>
            </a:xfrm>
          </p:grpSpPr>
          <p:grpSp>
            <p:nvGrpSpPr>
              <p:cNvPr id="422" name="Group 18"/>
              <p:cNvGrpSpPr/>
              <p:nvPr/>
            </p:nvGrpSpPr>
            <p:grpSpPr>
              <a:xfrm>
                <a:off x="1523880" y="4267080"/>
                <a:ext cx="2286000" cy="1297800"/>
                <a:chOff x="1523880" y="4267080"/>
                <a:chExt cx="2286000" cy="1297800"/>
              </a:xfrm>
            </p:grpSpPr>
            <p:sp>
              <p:nvSpPr>
                <p:cNvPr id="423" name="Text Box 15"/>
                <p:cNvSpPr/>
                <p:nvPr/>
              </p:nvSpPr>
              <p:spPr>
                <a:xfrm>
                  <a:off x="2895480" y="4271760"/>
                  <a:ext cx="914400" cy="368280"/>
                </a:xfrm>
                <a:prstGeom prst="rect">
                  <a:avLst/>
                </a:prstGeom>
                <a:solidFill>
                  <a:srgbClr val="dbdbd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=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33"/>
                <p:cNvSpPr/>
                <p:nvPr/>
              </p:nvSpPr>
              <p:spPr>
                <a:xfrm>
                  <a:off x="3276720" y="4572000"/>
                  <a:ext cx="75960" cy="685800"/>
                </a:xfrm>
                <a:prstGeom prst="upArrow">
                  <a:avLst>
                    <a:gd name="adj1" fmla="val 50000"/>
                    <a:gd name="adj2" fmla="val 225711"/>
                  </a:avLst>
                </a:prstGeom>
                <a:solidFill>
                  <a:srgbClr val="60b5cc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36"/>
                <p:cNvSpPr/>
                <p:nvPr/>
              </p:nvSpPr>
              <p:spPr>
                <a:xfrm>
                  <a:off x="1523880" y="4419360"/>
                  <a:ext cx="914400" cy="75960"/>
                </a:xfrm>
                <a:prstGeom prst="rightArrow">
                  <a:avLst>
                    <a:gd name="adj1" fmla="val 50000"/>
                    <a:gd name="adj2" fmla="val 300948"/>
                  </a:avLst>
                </a:prstGeom>
                <a:solidFill>
                  <a:srgbClr val="60b5cc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Text Box 16"/>
                <p:cNvSpPr/>
                <p:nvPr/>
              </p:nvSpPr>
              <p:spPr>
                <a:xfrm>
                  <a:off x="2438280" y="42670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&amp;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Text Box 34"/>
                <p:cNvSpPr/>
                <p:nvPr/>
              </p:nvSpPr>
              <p:spPr>
                <a:xfrm>
                  <a:off x="2819160" y="5257800"/>
                  <a:ext cx="91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37"/>
                <p:cNvSpPr/>
                <p:nvPr/>
              </p:nvSpPr>
              <p:spPr>
                <a:xfrm>
                  <a:off x="1523880" y="4572000"/>
                  <a:ext cx="91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dres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20"/>
              <p:cNvGrpSpPr/>
              <p:nvPr/>
            </p:nvGrpSpPr>
            <p:grpSpPr>
              <a:xfrm>
                <a:off x="1371600" y="3809880"/>
                <a:ext cx="6172200" cy="2459520"/>
                <a:chOff x="1371600" y="3809880"/>
                <a:chExt cx="6172200" cy="2459520"/>
              </a:xfrm>
            </p:grpSpPr>
            <p:sp>
              <p:nvSpPr>
                <p:cNvPr id="430" name="Text Box 31"/>
                <p:cNvSpPr/>
                <p:nvPr/>
              </p:nvSpPr>
              <p:spPr>
                <a:xfrm>
                  <a:off x="1371600" y="5715000"/>
                  <a:ext cx="266688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    = data inside address &amp;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&amp;x = addr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 Box 58"/>
                <p:cNvSpPr/>
                <p:nvPr/>
              </p:nvSpPr>
              <p:spPr>
                <a:xfrm>
                  <a:off x="4648320" y="5639040"/>
                  <a:ext cx="289548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 = addr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*p = the data inside address 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Text Box 53"/>
                <p:cNvSpPr/>
                <p:nvPr/>
              </p:nvSpPr>
              <p:spPr>
                <a:xfrm>
                  <a:off x="4724280" y="3809880"/>
                  <a:ext cx="10666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t *p;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=&amp;x;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30"/>
            <p:cNvGrpSpPr/>
            <p:nvPr/>
          </p:nvGrpSpPr>
          <p:grpSpPr>
            <a:xfrm>
              <a:off x="5486400" y="3657600"/>
              <a:ext cx="1752480" cy="1066680"/>
              <a:chOff x="5486400" y="3657600"/>
              <a:chExt cx="1752480" cy="1066680"/>
            </a:xfrm>
          </p:grpSpPr>
          <p:sp>
            <p:nvSpPr>
              <p:cNvPr id="434" name="AutoShape 33"/>
              <p:cNvSpPr/>
              <p:nvPr/>
            </p:nvSpPr>
            <p:spPr>
              <a:xfrm>
                <a:off x="6781680" y="4038480"/>
                <a:ext cx="75960" cy="685800"/>
              </a:xfrm>
              <a:prstGeom prst="upArrow">
                <a:avLst>
                  <a:gd name="adj1" fmla="val 50000"/>
                  <a:gd name="adj2" fmla="val 225711"/>
                </a:avLst>
              </a:prstGeom>
              <a:solidFill>
                <a:srgbClr val="60b5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"/>
              <p:cNvSpPr/>
              <p:nvPr/>
            </p:nvSpPr>
            <p:spPr>
              <a:xfrm>
                <a:off x="6400800" y="3662280"/>
                <a:ext cx="838080" cy="368280"/>
              </a:xfrm>
              <a:prstGeom prst="rect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=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16"/>
              <p:cNvSpPr/>
              <p:nvPr/>
            </p:nvSpPr>
            <p:spPr>
              <a:xfrm>
                <a:off x="5486400" y="36576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amp;x =FF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What is a Pointer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provides the means with which functions can modify their calling argu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is used to support Turbo C’s dynamic allocation syst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The use of pointers can improve the efficiency of certain rout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is commonly used to support certain data structures such as linked lists and binary tre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 Variabl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declaration consists of a base type, an *, and the variable na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yntax Declar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data_type&gt; *var_nam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Line 4"/>
          <p:cNvSpPr/>
          <p:nvPr/>
        </p:nvSpPr>
        <p:spPr>
          <a:xfrm>
            <a:off x="182880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048120" y="5029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Constantia"/>
              </a:rPr>
              <a:t>Defines what type of variables the pointer can point to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 Operato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Two special pointer operato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&amp; is a unary operator that returns the memory address of its oper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* is the complement of &amp;; a unary operator that returns the value of the variable located at the address that foll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What is an Array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 array is a collection of variables of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same typ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placed in memo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contiguousl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et of data of data in an array is only giv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ne nam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the indices are used to differentiate each of the dat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array is important to avoid redundancy of variable declaration and for easy access of data that are placed contiguously in memo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4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the job of the programmer to ensure that the array is large enough to hold what the program will put in th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 Express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ointer assig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As with any variable, a pointer  may be used on the right-hand side of assignment statements to assign its value to another poin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ointer arithme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Arithmetic operations are performed to the pointer relative to its base 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100" spc="-1" strike="noStrike">
                <a:solidFill>
                  <a:srgbClr val="000000"/>
                </a:solidFill>
                <a:latin typeface="Constantia"/>
              </a:rPr>
              <a:t>Addition and subtraction of a pointer and an integ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100" spc="-1" strike="noStrike">
                <a:solidFill>
                  <a:srgbClr val="000000"/>
                </a:solidFill>
                <a:latin typeface="Constantia"/>
              </a:rPr>
              <a:t>Subtraction of a pointer from another pointer (only when it makes sens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 Express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ointer compari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It is possible to compare two pointers in a relational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Generally used when two or more pointers are pointing to a common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600" spc="-1" strike="noStrike">
                <a:solidFill>
                  <a:srgbClr val="5a6378"/>
                </a:solidFill>
                <a:latin typeface="Calibri"/>
              </a:rPr>
              <a:t>Dynamic Allocation Functions</a:t>
            </a:r>
            <a:endParaRPr b="0" lang="en-US" sz="4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Upon compi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Program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Glob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Line 4"/>
          <p:cNvSpPr/>
          <p:nvPr/>
        </p:nvSpPr>
        <p:spPr>
          <a:xfrm>
            <a:off x="1752480" y="41148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3886200" y="44956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An area of free memory managed by C’s dynamic alloc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600" spc="-1" strike="noStrike">
                <a:solidFill>
                  <a:srgbClr val="5a6378"/>
                </a:solidFill>
                <a:latin typeface="Calibri"/>
              </a:rPr>
              <a:t>Dynamic Allocation Functions</a:t>
            </a:r>
            <a:endParaRPr b="0" lang="en-US" sz="4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This code fragment allocates 25 bytes of mem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char *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 = malloc(25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1828800" y="33526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2895480" y="41148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No type cast is used because the pointer type is converted automatically to the same type as the pointer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600" spc="-1" strike="noStrike">
                <a:solidFill>
                  <a:srgbClr val="5a6378"/>
                </a:solidFill>
                <a:latin typeface="Calibri"/>
              </a:rPr>
              <a:t>Dynamic Allocation Functions</a:t>
            </a:r>
            <a:endParaRPr b="0" lang="en-US" sz="4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Another exampl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p = malloc(50*sizeof(int)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It is imperative to check the value returned by malloc( ) to make sure that it is not null before using the poin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if((p=malloc(100))==NULL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printf(“Out of memory. \n”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exit(1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200" spc="-1" strike="noStrike">
                <a:solidFill>
                  <a:srgbClr val="000000"/>
                </a:solidFill>
                <a:latin typeface="Constantia"/>
              </a:rPr>
              <a:t>}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Find the error in this program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80880" y="1828800"/>
            <a:ext cx="8305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#include&lt;string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char *p1, s[8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p1 =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gets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while (*p1) printf(“%d”, *p1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} while (strcmp(s, “done”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s to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pointer to a pointer is a form of multiple indirection, or a chain of poi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63" name="Group 24"/>
          <p:cNvGrpSpPr/>
          <p:nvPr/>
        </p:nvGrpSpPr>
        <p:grpSpPr>
          <a:xfrm>
            <a:off x="1600200" y="2743200"/>
            <a:ext cx="5181480" cy="1511280"/>
            <a:chOff x="1600200" y="2743200"/>
            <a:chExt cx="5181480" cy="1511280"/>
          </a:xfrm>
        </p:grpSpPr>
        <p:sp>
          <p:nvSpPr>
            <p:cNvPr id="464" name="Text Box 12"/>
            <p:cNvSpPr/>
            <p:nvPr/>
          </p:nvSpPr>
          <p:spPr>
            <a:xfrm>
              <a:off x="3276720" y="38862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Single In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23"/>
            <p:cNvGrpSpPr/>
            <p:nvPr/>
          </p:nvGrpSpPr>
          <p:grpSpPr>
            <a:xfrm>
              <a:off x="1600200" y="2743200"/>
              <a:ext cx="5181480" cy="1022400"/>
              <a:chOff x="1600200" y="2743200"/>
              <a:chExt cx="5181480" cy="1022400"/>
            </a:xfrm>
          </p:grpSpPr>
          <p:sp>
            <p:nvSpPr>
              <p:cNvPr id="466" name="Rectangle 5"/>
              <p:cNvSpPr/>
              <p:nvPr/>
            </p:nvSpPr>
            <p:spPr>
              <a:xfrm>
                <a:off x="4952880" y="2971800"/>
                <a:ext cx="1828800" cy="762120"/>
              </a:xfrm>
              <a:prstGeom prst="rect">
                <a:avLst/>
              </a:prstGeom>
              <a:solidFill>
                <a:srgbClr val="60b5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PH" sz="1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Group 19"/>
              <p:cNvGrpSpPr/>
              <p:nvPr/>
            </p:nvGrpSpPr>
            <p:grpSpPr>
              <a:xfrm>
                <a:off x="1600200" y="2743200"/>
                <a:ext cx="5032440" cy="1022400"/>
                <a:chOff x="1600200" y="2743200"/>
                <a:chExt cx="5032440" cy="1022400"/>
              </a:xfrm>
            </p:grpSpPr>
            <p:sp>
              <p:nvSpPr>
                <p:cNvPr id="468" name="Rectangle 4"/>
                <p:cNvSpPr/>
                <p:nvPr/>
              </p:nvSpPr>
              <p:spPr>
                <a:xfrm>
                  <a:off x="1600200" y="3003480"/>
                  <a:ext cx="1828800" cy="762120"/>
                </a:xfrm>
                <a:prstGeom prst="rect">
                  <a:avLst/>
                </a:prstGeom>
                <a:solidFill>
                  <a:srgbClr val="60b5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800" spc="-1" strike="noStrike">
                      <a:solidFill>
                        <a:srgbClr val="000000"/>
                      </a:solidFill>
                      <a:latin typeface="Arial"/>
                    </a:rPr>
                    <a:t>addr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9"/>
                <p:cNvSpPr/>
                <p:nvPr/>
              </p:nvSpPr>
              <p:spPr>
                <a:xfrm>
                  <a:off x="3429000" y="338436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15"/>
                <p:cNvSpPr/>
                <p:nvPr/>
              </p:nvSpPr>
              <p:spPr>
                <a:xfrm>
                  <a:off x="2158920" y="2743200"/>
                  <a:ext cx="12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400" spc="-1" strike="noStrike">
                      <a:solidFill>
                        <a:srgbClr val="000000"/>
                      </a:solidFill>
                      <a:latin typeface="Arial"/>
                    </a:rPr>
                    <a:t>Poin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17"/>
                <p:cNvSpPr/>
                <p:nvPr/>
              </p:nvSpPr>
              <p:spPr>
                <a:xfrm>
                  <a:off x="5413320" y="2743200"/>
                  <a:ext cx="12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400" spc="-1" strike="noStrike">
                      <a:solidFill>
                        <a:srgbClr val="000000"/>
                      </a:solidFill>
                      <a:latin typeface="Arial"/>
                    </a:rPr>
                    <a:t>Variab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2" name="Group 22"/>
          <p:cNvGrpSpPr/>
          <p:nvPr/>
        </p:nvGrpSpPr>
        <p:grpSpPr>
          <a:xfrm>
            <a:off x="457200" y="4267080"/>
            <a:ext cx="7620120" cy="1663920"/>
            <a:chOff x="457200" y="4267080"/>
            <a:chExt cx="7620120" cy="1663920"/>
          </a:xfrm>
        </p:grpSpPr>
        <p:sp>
          <p:nvSpPr>
            <p:cNvPr id="473" name="Text Box 13"/>
            <p:cNvSpPr/>
            <p:nvPr/>
          </p:nvSpPr>
          <p:spPr>
            <a:xfrm>
              <a:off x="3429000" y="556272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Multiple In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21"/>
            <p:cNvGrpSpPr/>
            <p:nvPr/>
          </p:nvGrpSpPr>
          <p:grpSpPr>
            <a:xfrm>
              <a:off x="457200" y="4267080"/>
              <a:ext cx="7620120" cy="1067040"/>
              <a:chOff x="457200" y="4267080"/>
              <a:chExt cx="7620120" cy="1067040"/>
            </a:xfrm>
          </p:grpSpPr>
          <p:sp>
            <p:nvSpPr>
              <p:cNvPr id="475" name="Line 10"/>
              <p:cNvSpPr/>
              <p:nvPr/>
            </p:nvSpPr>
            <p:spPr>
              <a:xfrm>
                <a:off x="2286000" y="4952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Group 20"/>
              <p:cNvGrpSpPr/>
              <p:nvPr/>
            </p:nvGrpSpPr>
            <p:grpSpPr>
              <a:xfrm>
                <a:off x="457200" y="4267080"/>
                <a:ext cx="7620120" cy="1067040"/>
                <a:chOff x="457200" y="4267080"/>
                <a:chExt cx="7620120" cy="1067040"/>
              </a:xfrm>
            </p:grpSpPr>
            <p:sp>
              <p:nvSpPr>
                <p:cNvPr id="477" name="Rectangle 6"/>
                <p:cNvSpPr/>
                <p:nvPr/>
              </p:nvSpPr>
              <p:spPr>
                <a:xfrm>
                  <a:off x="457200" y="4572000"/>
                  <a:ext cx="1828800" cy="762120"/>
                </a:xfrm>
                <a:prstGeom prst="rect">
                  <a:avLst/>
                </a:prstGeom>
                <a:solidFill>
                  <a:srgbClr val="60b5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800" spc="-1" strike="noStrike">
                      <a:solidFill>
                        <a:srgbClr val="000000"/>
                      </a:solidFill>
                      <a:latin typeface="Arial"/>
                    </a:rPr>
                    <a:t>addr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7"/>
                <p:cNvSpPr/>
                <p:nvPr/>
              </p:nvSpPr>
              <p:spPr>
                <a:xfrm>
                  <a:off x="3352680" y="4572000"/>
                  <a:ext cx="1828800" cy="762120"/>
                </a:xfrm>
                <a:prstGeom prst="rect">
                  <a:avLst/>
                </a:prstGeom>
                <a:solidFill>
                  <a:srgbClr val="60b5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800" spc="-1" strike="noStrike">
                      <a:solidFill>
                        <a:srgbClr val="000000"/>
                      </a:solidFill>
                      <a:latin typeface="Arial"/>
                    </a:rPr>
                    <a:t>addr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8"/>
                <p:cNvSpPr/>
                <p:nvPr/>
              </p:nvSpPr>
              <p:spPr>
                <a:xfrm>
                  <a:off x="6248520" y="4572000"/>
                  <a:ext cx="1828800" cy="762120"/>
                </a:xfrm>
                <a:prstGeom prst="rect">
                  <a:avLst/>
                </a:prstGeom>
                <a:solidFill>
                  <a:srgbClr val="60b5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8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1"/>
                <p:cNvSpPr/>
                <p:nvPr/>
              </p:nvSpPr>
              <p:spPr>
                <a:xfrm>
                  <a:off x="5181480" y="4952880"/>
                  <a:ext cx="106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14"/>
                <p:cNvSpPr/>
                <p:nvPr/>
              </p:nvSpPr>
              <p:spPr>
                <a:xfrm>
                  <a:off x="914400" y="4267080"/>
                  <a:ext cx="12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400" spc="-1" strike="noStrike">
                      <a:solidFill>
                        <a:srgbClr val="000000"/>
                      </a:solidFill>
                      <a:latin typeface="Arial"/>
                    </a:rPr>
                    <a:t>Poin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16"/>
                <p:cNvSpPr/>
                <p:nvPr/>
              </p:nvSpPr>
              <p:spPr>
                <a:xfrm>
                  <a:off x="3867120" y="4314960"/>
                  <a:ext cx="12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400" spc="-1" strike="noStrike">
                      <a:solidFill>
                        <a:srgbClr val="000000"/>
                      </a:solidFill>
                      <a:latin typeface="Arial"/>
                    </a:rPr>
                    <a:t>Poin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18"/>
                <p:cNvSpPr/>
                <p:nvPr/>
              </p:nvSpPr>
              <p:spPr>
                <a:xfrm>
                  <a:off x="6727680" y="4299120"/>
                  <a:ext cx="12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PH" sz="1400" spc="-1" strike="noStrike">
                      <a:solidFill>
                        <a:srgbClr val="000000"/>
                      </a:solidFill>
                      <a:latin typeface="Arial"/>
                    </a:rPr>
                    <a:t>Variab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s to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A variable that is a pointer to a pointer must be declared as su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float  **newbalan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In order to acess the target value indirectly pointed to by a pointer to a pointer, the asterisk operator must be applied twice as show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printf(“ %f ”,**newbalanc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Initializing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By convention, a pointer that is pointing to nowhere should be given the value null to signify that is points to not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ointers to Funct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Even though a function is not a variable, it still has a physical location in memory that can be assigned to a poin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Read on how the address of a function is obtain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Read on how to create an array of function pointers for user-defin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One Dimensional Array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yntax Declar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base_type&gt; var_name[size]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base_type&gt; var_name[size] = {optional initialization data}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tal Size of the Array in byt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tal bytes = sizeof(base type) * number of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685800" y="1905120"/>
            <a:ext cx="3581280" cy="457200"/>
            <a:chOff x="685800" y="1905120"/>
            <a:chExt cx="3581280" cy="457200"/>
          </a:xfrm>
        </p:grpSpPr>
        <p:sp>
          <p:nvSpPr>
            <p:cNvPr id="256" name="Rectangle 4"/>
            <p:cNvSpPr/>
            <p:nvPr/>
          </p:nvSpPr>
          <p:spPr>
            <a:xfrm>
              <a:off x="685800" y="1905120"/>
              <a:ext cx="51120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0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1197000" y="1905120"/>
              <a:ext cx="51264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1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1709640" y="1905120"/>
              <a:ext cx="51120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2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2220840" y="1905120"/>
              <a:ext cx="51120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3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2732040" y="1905120"/>
              <a:ext cx="51120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4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3243240" y="1905120"/>
              <a:ext cx="51264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5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3755880" y="1905120"/>
              <a:ext cx="511200" cy="457200"/>
            </a:xfrm>
            <a:prstGeom prst="rect">
              <a:avLst/>
            </a:prstGeom>
            <a:noFill/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a[6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5a6378"/>
                </a:solidFill>
                <a:latin typeface="Calibri"/>
              </a:rPr>
              <a:t>Problems with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533520" y="2209680"/>
            <a:ext cx="3276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int x,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x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*p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4191120" y="1905120"/>
            <a:ext cx="41148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int x,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x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p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printf(“%d”, *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eatwork 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dict the 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143000" y="2133720"/>
            <a:ext cx="5181480" cy="4603320"/>
          </a:xfrm>
          <a:prstGeom prst="rect">
            <a:avLst/>
          </a:prstGeom>
          <a:noFill/>
          <a:ln w="93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um[5] = {10,20,30,40,50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*p1, *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=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 = p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1 = *p1++ + *p2 +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2 = *(p1+2)   +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\n%d”, *p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\n%d”, *p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 language gives you five ways to create custom data types.  One of these is through the creation of struct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What is a Structure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 is a collection of variables referenced under one name, providing a convenient means of keeping related information togeth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609480" y="19810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add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name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reet[4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ity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ate[3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long int z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7"/>
          <p:cNvGrpSpPr/>
          <p:nvPr/>
        </p:nvGrpSpPr>
        <p:grpSpPr>
          <a:xfrm>
            <a:off x="4191120" y="1828800"/>
            <a:ext cx="2743200" cy="2286000"/>
            <a:chOff x="4191120" y="1828800"/>
            <a:chExt cx="2743200" cy="2286000"/>
          </a:xfrm>
        </p:grpSpPr>
        <p:sp>
          <p:nvSpPr>
            <p:cNvPr id="503" name="Right Brace 5"/>
            <p:cNvSpPr/>
            <p:nvPr/>
          </p:nvSpPr>
          <p:spPr>
            <a:xfrm>
              <a:off x="4191120" y="182880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9720 h 2286000"/>
                <a:gd name="textAreaBottom" fmla="*/ 227628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6"/>
            <p:cNvSpPr/>
            <p:nvPr/>
          </p:nvSpPr>
          <p:spPr>
            <a:xfrm>
              <a:off x="4572000" y="28195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cl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3200400" y="1828800"/>
            <a:ext cx="5334120" cy="609480"/>
            <a:chOff x="3200400" y="1828800"/>
            <a:chExt cx="5334120" cy="609480"/>
          </a:xfrm>
        </p:grpSpPr>
        <p:cxnSp>
          <p:nvCxnSpPr>
            <p:cNvPr id="506" name="Straight Arrow Connector 9"/>
            <p:cNvCxnSpPr/>
            <p:nvPr/>
          </p:nvCxnSpPr>
          <p:spPr>
            <a:xfrm flipV="1">
              <a:off x="3200400" y="1980720"/>
              <a:ext cx="3277440" cy="45792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507" name="TextBox 10"/>
            <p:cNvSpPr/>
            <p:nvPr/>
          </p:nvSpPr>
          <p:spPr>
            <a:xfrm>
              <a:off x="6400800" y="1828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5"/>
          <p:cNvGrpSpPr/>
          <p:nvPr/>
        </p:nvGrpSpPr>
        <p:grpSpPr>
          <a:xfrm>
            <a:off x="989640" y="2209320"/>
            <a:ext cx="6020640" cy="3171600"/>
            <a:chOff x="989640" y="2209320"/>
            <a:chExt cx="6020640" cy="3171600"/>
          </a:xfrm>
        </p:grpSpPr>
        <p:cxnSp>
          <p:nvCxnSpPr>
            <p:cNvPr id="509" name="Straight Arrow Connector 13"/>
            <p:cNvCxnSpPr/>
            <p:nvPr/>
          </p:nvCxnSpPr>
          <p:spPr>
            <a:xfrm>
              <a:off x="989640" y="2209320"/>
              <a:ext cx="2439000" cy="274428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510" name="TextBox 14"/>
            <p:cNvSpPr/>
            <p:nvPr/>
          </p:nvSpPr>
          <p:spPr>
            <a:xfrm>
              <a:off x="3505320" y="480024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ls the compiler that a structure is being decla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838080" y="3886200"/>
            <a:ext cx="6019920" cy="1875600"/>
            <a:chOff x="838080" y="3886200"/>
            <a:chExt cx="6019920" cy="1875600"/>
          </a:xfrm>
        </p:grpSpPr>
        <p:cxnSp>
          <p:nvCxnSpPr>
            <p:cNvPr id="512" name="Straight Arrow Connector 17"/>
            <p:cNvCxnSpPr/>
            <p:nvPr/>
          </p:nvCxnSpPr>
          <p:spPr>
            <a:xfrm>
              <a:off x="838080" y="3886200"/>
              <a:ext cx="1753200" cy="137232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513" name="TextBox 18"/>
            <p:cNvSpPr/>
            <p:nvPr/>
          </p:nvSpPr>
          <p:spPr>
            <a:xfrm>
              <a:off x="2743200" y="5181120"/>
              <a:ext cx="411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ds with a semicolon because it is a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3"/>
          <p:cNvGrpSpPr/>
          <p:nvPr/>
        </p:nvGrpSpPr>
        <p:grpSpPr>
          <a:xfrm>
            <a:off x="1600200" y="838080"/>
            <a:ext cx="5791320" cy="1218960"/>
            <a:chOff x="1600200" y="838080"/>
            <a:chExt cx="5791320" cy="1218960"/>
          </a:xfrm>
        </p:grpSpPr>
        <p:cxnSp>
          <p:nvCxnSpPr>
            <p:cNvPr id="515" name="Straight Arrow Connector 21"/>
            <p:cNvCxnSpPr/>
            <p:nvPr/>
          </p:nvCxnSpPr>
          <p:spPr>
            <a:xfrm flipV="1">
              <a:off x="1600200" y="1218240"/>
              <a:ext cx="2667240" cy="83916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516" name="TextBox 22"/>
            <p:cNvSpPr/>
            <p:nvPr/>
          </p:nvSpPr>
          <p:spPr>
            <a:xfrm>
              <a:off x="4343400" y="838080"/>
              <a:ext cx="304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name or tag or type specif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clare an actual variable with this 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 addr addr_inf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19" name="Group 33"/>
          <p:cNvGrpSpPr/>
          <p:nvPr/>
        </p:nvGrpSpPr>
        <p:grpSpPr>
          <a:xfrm>
            <a:off x="1936800" y="3276720"/>
            <a:ext cx="5302080" cy="1904760"/>
            <a:chOff x="1936800" y="3276720"/>
            <a:chExt cx="5302080" cy="1904760"/>
          </a:xfrm>
        </p:grpSpPr>
        <p:pic>
          <p:nvPicPr>
            <p:cNvPr id="520" name="Group 11" descr=""/>
            <p:cNvPicPr/>
            <p:nvPr/>
          </p:nvPicPr>
          <p:blipFill>
            <a:blip r:embed="rId1"/>
            <a:stretch/>
          </p:blipFill>
          <p:spPr>
            <a:xfrm>
              <a:off x="2804040" y="3276720"/>
              <a:ext cx="2170080" cy="19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Group 31"/>
            <p:cNvGrpSpPr/>
            <p:nvPr/>
          </p:nvGrpSpPr>
          <p:grpSpPr>
            <a:xfrm>
              <a:off x="1936800" y="3303360"/>
              <a:ext cx="1797480" cy="1856520"/>
              <a:chOff x="1936800" y="3303360"/>
              <a:chExt cx="1797480" cy="1856520"/>
            </a:xfrm>
          </p:grpSpPr>
          <p:sp>
            <p:nvSpPr>
              <p:cNvPr id="522" name="TextBox 12"/>
              <p:cNvSpPr/>
              <p:nvPr/>
            </p:nvSpPr>
            <p:spPr>
              <a:xfrm>
                <a:off x="1967760" y="330336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Box 13"/>
              <p:cNvSpPr/>
              <p:nvPr/>
            </p:nvSpPr>
            <p:spPr>
              <a:xfrm>
                <a:off x="1936800" y="367524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Box 14"/>
              <p:cNvSpPr/>
              <p:nvPr/>
            </p:nvSpPr>
            <p:spPr>
              <a:xfrm>
                <a:off x="1981800" y="404748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5"/>
              <p:cNvSpPr/>
              <p:nvPr/>
            </p:nvSpPr>
            <p:spPr>
              <a:xfrm>
                <a:off x="1981800" y="441936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6"/>
              <p:cNvSpPr/>
              <p:nvPr/>
            </p:nvSpPr>
            <p:spPr>
              <a:xfrm>
                <a:off x="1981800" y="479160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i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32"/>
            <p:cNvGrpSpPr/>
            <p:nvPr/>
          </p:nvGrpSpPr>
          <p:grpSpPr>
            <a:xfrm>
              <a:off x="5105520" y="3303360"/>
              <a:ext cx="2133360" cy="1860120"/>
              <a:chOff x="5105520" y="3303360"/>
              <a:chExt cx="2133360" cy="1860120"/>
            </a:xfrm>
          </p:grpSpPr>
          <p:sp>
            <p:nvSpPr>
              <p:cNvPr id="528" name="Right Brace 20"/>
              <p:cNvSpPr/>
              <p:nvPr/>
            </p:nvSpPr>
            <p:spPr>
              <a:xfrm>
                <a:off x="5105520" y="3303360"/>
                <a:ext cx="457200" cy="186012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11520 h 1860120"/>
                  <a:gd name="textAreaBottom" fmla="*/ 1848600 h 18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16"/>
                      <a:pt x="10800" y="432"/>
                    </a:cubicBezTo>
                    <a:lnTo>
                      <a:pt x="10800" y="10368"/>
                    </a:lnTo>
                    <a:cubicBezTo>
                      <a:pt x="10800" y="10584"/>
                      <a:pt x="16200" y="10800"/>
                      <a:pt x="21600" y="10800"/>
                    </a:cubicBezTo>
                    <a:cubicBezTo>
                      <a:pt x="16200" y="10800"/>
                      <a:pt x="10800" y="11016"/>
                      <a:pt x="10800" y="11232"/>
                    </a:cubicBezTo>
                    <a:lnTo>
                      <a:pt x="10800" y="21168"/>
                    </a:lnTo>
                    <a:cubicBezTo>
                      <a:pt x="10800" y="21384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60b5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Box 21"/>
              <p:cNvSpPr/>
              <p:nvPr/>
            </p:nvSpPr>
            <p:spPr>
              <a:xfrm>
                <a:off x="5639040" y="4047480"/>
                <a:ext cx="159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dr_inf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609480" y="19810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add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name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reet[4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ity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ate[3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long int z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ddr_info, binfo, c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2133720" y="4038120"/>
            <a:ext cx="5333760" cy="1433880"/>
            <a:chOff x="2133720" y="4038120"/>
            <a:chExt cx="5333760" cy="1433880"/>
          </a:xfrm>
        </p:grpSpPr>
        <p:cxnSp>
          <p:nvCxnSpPr>
            <p:cNvPr id="533" name="Straight Arrow Connector 5"/>
            <p:cNvCxnSpPr/>
            <p:nvPr/>
          </p:nvCxnSpPr>
          <p:spPr>
            <a:xfrm>
              <a:off x="2133720" y="4038120"/>
              <a:ext cx="2743920" cy="83916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534" name="TextBox 6"/>
            <p:cNvSpPr/>
            <p:nvPr/>
          </p:nvSpPr>
          <p:spPr>
            <a:xfrm>
              <a:off x="5105520" y="4647960"/>
              <a:ext cx="236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claration of variables with structure decl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need only one structure, no structure name is nee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685800" y="281952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name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reet[4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ity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ate[3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long int z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ddr_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Referencing Structure Element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al structure elements are referenced by using the . (dot operato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r_info.zip = 12345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“%ld”, addr_info.zip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s(addr_info.na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Arrays of Structure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 addr addr_info[100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“%ld”, addr_info[2].zip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One Dimensional Array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 int num[5]= { 2, 4, 3, 10, 20}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5" name="Group 14"/>
          <p:cNvGrpSpPr/>
          <p:nvPr/>
        </p:nvGrpSpPr>
        <p:grpSpPr>
          <a:xfrm>
            <a:off x="2819520" y="2971800"/>
            <a:ext cx="2290680" cy="368280"/>
            <a:chOff x="2819520" y="2971800"/>
            <a:chExt cx="2290680" cy="368280"/>
          </a:xfrm>
        </p:grpSpPr>
        <p:sp>
          <p:nvSpPr>
            <p:cNvPr id="266" name="Text Box 9"/>
            <p:cNvSpPr/>
            <p:nvPr/>
          </p:nvSpPr>
          <p:spPr>
            <a:xfrm>
              <a:off x="4648320" y="2971800"/>
              <a:ext cx="461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2819520" y="2971800"/>
              <a:ext cx="461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3271680" y="2971800"/>
              <a:ext cx="462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3728880" y="2971800"/>
              <a:ext cx="462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"/>
            <p:cNvSpPr/>
            <p:nvPr/>
          </p:nvSpPr>
          <p:spPr>
            <a:xfrm>
              <a:off x="4191120" y="2971800"/>
              <a:ext cx="461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5"/>
          <p:cNvSpPr/>
          <p:nvPr/>
        </p:nvSpPr>
        <p:spPr>
          <a:xfrm>
            <a:off x="1828800" y="2590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dex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          1        2        3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 flipV="1">
            <a:off x="29718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"/>
          <p:cNvSpPr/>
          <p:nvPr/>
        </p:nvSpPr>
        <p:spPr>
          <a:xfrm flipV="1">
            <a:off x="3581280" y="3352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25"/>
          <p:cNvGrpSpPr/>
          <p:nvPr/>
        </p:nvGrpSpPr>
        <p:grpSpPr>
          <a:xfrm>
            <a:off x="1143000" y="3352320"/>
            <a:ext cx="4724280" cy="1707840"/>
            <a:chOff x="1143000" y="3352320"/>
            <a:chExt cx="4724280" cy="1707840"/>
          </a:xfrm>
        </p:grpSpPr>
        <p:sp>
          <p:nvSpPr>
            <p:cNvPr id="275" name="Text Box 17"/>
            <p:cNvSpPr/>
            <p:nvPr/>
          </p:nvSpPr>
          <p:spPr>
            <a:xfrm>
              <a:off x="1143000" y="3657600"/>
              <a:ext cx="4724280" cy="14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Dat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num[0]      num[1]     num[2]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tantia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Addre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&amp;num[0]    &amp;num[1]   &amp;num[2]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tantia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tantia"/>
                </a:rPr>
                <a:t>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or 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3"/>
            <p:cNvSpPr/>
            <p:nvPr/>
          </p:nvSpPr>
          <p:spPr>
            <a:xfrm flipH="1">
              <a:off x="3962160" y="3657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 flipV="1">
              <a:off x="3962520" y="3352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26"/>
          <p:cNvSpPr/>
          <p:nvPr/>
        </p:nvSpPr>
        <p:spPr>
          <a:xfrm>
            <a:off x="5867280" y="2743200"/>
            <a:ext cx="2362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0b5cc"/>
                </a:solidFill>
                <a:uFillTx/>
                <a:latin typeface="Constantia"/>
              </a:rPr>
              <a:t>Note:</a:t>
            </a:r>
            <a:r>
              <a:rPr b="1" lang="en-US" sz="1600" spc="-1" strike="noStrike">
                <a:solidFill>
                  <a:srgbClr val="60b5cc"/>
                </a:solidFill>
                <a:latin typeface="Constanti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in Index 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ax Index = size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0b5cc"/>
                </a:solidFill>
                <a:uFillTx/>
                <a:latin typeface="Constantia"/>
              </a:rPr>
              <a:t>Important</a:t>
            </a:r>
            <a:r>
              <a:rPr b="0" lang="en-US" sz="1600" spc="-1" strike="noStrike" u="sng">
                <a:solidFill>
                  <a:srgbClr val="60b5cc"/>
                </a:solidFill>
                <a:uFillTx/>
                <a:latin typeface="Constant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name of the array is the starting address of the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Passing Structures to Funct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Structure Elements to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 fred 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 x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 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oat z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 s[10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} mik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2438280" y="2514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mike.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2(mike.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(mike.s[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2438280" y="4419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&amp;mike.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2(&amp;mike.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(&amp;mike.s[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480060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(mik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4876920" y="44197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unc(struct fred p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ructure Pointer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 bal 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oat balan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 name[80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} pers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 bal *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 = &amp;pers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&gt;balance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One Dimensional Array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3520" y="1981080"/>
          <a:ext cx="7924680" cy="4191120"/>
        </p:xfrm>
        <a:graphic>
          <a:graphicData uri="http://schemas.openxmlformats.org/drawingml/2006/table">
            <a:tbl>
              <a:tblPr/>
              <a:tblGrid>
                <a:gridCol w="496800"/>
                <a:gridCol w="2668680"/>
                <a:gridCol w="2238120"/>
                <a:gridCol w="430200"/>
                <a:gridCol w="2090880"/>
              </a:tblGrid>
              <a:tr h="617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Program : Compute Sum of Array Inpu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* Filename: SumArray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Description: Ask 5 integers and compute the su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r: Pedro de la Cru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Written: May 29,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Output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=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</a:tr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clude&lt;stdio.h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main(voi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int num[5]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x, sum=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x=0; x&lt;5; x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 printf(“Enter a number: “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f(“%d”, &amp;num[x]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x=0; x&lt;5; x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+= num[x]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f(“\nSum=%d”, sum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9"/>
          <p:cNvGrpSpPr/>
          <p:nvPr/>
        </p:nvGrpSpPr>
        <p:grpSpPr>
          <a:xfrm>
            <a:off x="3962520" y="2514600"/>
            <a:ext cx="685800" cy="1327680"/>
            <a:chOff x="3962520" y="2514600"/>
            <a:chExt cx="685800" cy="1327680"/>
          </a:xfrm>
        </p:grpSpPr>
        <p:cxnSp>
          <p:nvCxnSpPr>
            <p:cNvPr id="283" name="Straight Arrow Connector 20"/>
            <p:cNvCxnSpPr/>
            <p:nvPr/>
          </p:nvCxnSpPr>
          <p:spPr>
            <a:xfrm flipH="1">
              <a:off x="4267080" y="2514600"/>
              <a:ext cx="381600" cy="91512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284" name="TextBox 21"/>
            <p:cNvSpPr/>
            <p:nvPr/>
          </p:nvSpPr>
          <p:spPr>
            <a:xfrm>
              <a:off x="3962520" y="35049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24"/>
          <p:cNvSpPr/>
          <p:nvPr/>
        </p:nvSpPr>
        <p:spPr>
          <a:xfrm>
            <a:off x="3429000" y="2514600"/>
            <a:ext cx="2971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int *a) /*point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Passing One Dimensional Array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87" name="Content Placeholder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315280" cy="4449960"/>
          </a:xfrm>
          <a:prstGeom prst="rect">
            <a:avLst/>
          </a:prstGeom>
          <a:ln w="0">
            <a:noFill/>
          </a:ln>
        </p:spPr>
      </p:pic>
      <p:pic>
        <p:nvPicPr>
          <p:cNvPr id="288" name="Group 12" descr=""/>
          <p:cNvPicPr/>
          <p:nvPr/>
        </p:nvPicPr>
        <p:blipFill>
          <a:blip r:embed="rId2"/>
          <a:stretch/>
        </p:blipFill>
        <p:spPr>
          <a:xfrm>
            <a:off x="3413160" y="1962000"/>
            <a:ext cx="3616200" cy="4953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5"/>
          <p:cNvGrpSpPr/>
          <p:nvPr/>
        </p:nvGrpSpPr>
        <p:grpSpPr>
          <a:xfrm>
            <a:off x="2666880" y="2514600"/>
            <a:ext cx="761760" cy="1327680"/>
            <a:chOff x="2666880" y="2514600"/>
            <a:chExt cx="761760" cy="1327680"/>
          </a:xfrm>
        </p:grpSpPr>
        <p:cxnSp>
          <p:nvCxnSpPr>
            <p:cNvPr id="290" name="Straight Arrow Connector 13"/>
            <p:cNvCxnSpPr/>
            <p:nvPr/>
          </p:nvCxnSpPr>
          <p:spPr>
            <a:xfrm flipH="1">
              <a:off x="3047040" y="2514600"/>
              <a:ext cx="381960" cy="91512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291" name="TextBox 14"/>
            <p:cNvSpPr/>
            <p:nvPr/>
          </p:nvSpPr>
          <p:spPr>
            <a:xfrm>
              <a:off x="2666880" y="3504960"/>
              <a:ext cx="68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6"/>
          <p:cNvGrpSpPr/>
          <p:nvPr/>
        </p:nvGrpSpPr>
        <p:grpSpPr>
          <a:xfrm>
            <a:off x="3276720" y="2514600"/>
            <a:ext cx="761760" cy="1327680"/>
            <a:chOff x="3276720" y="2514600"/>
            <a:chExt cx="761760" cy="1327680"/>
          </a:xfrm>
        </p:grpSpPr>
        <p:cxnSp>
          <p:nvCxnSpPr>
            <p:cNvPr id="293" name="Straight Arrow Connector 17"/>
            <p:cNvCxnSpPr/>
            <p:nvPr/>
          </p:nvCxnSpPr>
          <p:spPr>
            <a:xfrm flipH="1">
              <a:off x="3657240" y="2514600"/>
              <a:ext cx="381600" cy="915120"/>
            </a:xfrm>
            <a:prstGeom prst="straightConnector1">
              <a:avLst/>
            </a:prstGeom>
            <a:ln w="9360">
              <a:solidFill>
                <a:srgbClr val="60b5cc"/>
              </a:solidFill>
              <a:miter/>
              <a:tailEnd len="med" type="arrow" w="med"/>
            </a:ln>
          </p:spPr>
        </p:cxnSp>
        <p:sp>
          <p:nvSpPr>
            <p:cNvPr id="294" name="TextBox 18"/>
            <p:cNvSpPr/>
            <p:nvPr/>
          </p:nvSpPr>
          <p:spPr>
            <a:xfrm>
              <a:off x="3276720" y="35049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22"/>
          <p:cNvSpPr/>
          <p:nvPr/>
        </p:nvSpPr>
        <p:spPr>
          <a:xfrm>
            <a:off x="495288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380880" y="3581280"/>
            <a:ext cx="2241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3429000" y="4343400"/>
            <a:ext cx="3429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int  a[7]) /*sized arra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5181480" y="3429000"/>
            <a:ext cx="3429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1(int  a[ ]) /*unsized arra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9F7-B18D-4ACF-AD45-D88D09735E2C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yntax Declar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data_type&gt; array_name[row][column]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 {optional initialization data}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 int num[3][4] = { 1, 2, 3, 4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, 6, 7, 8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9, 3, 1, 0}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5562720" y="2971800"/>
            <a:ext cx="32004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0b5cc"/>
                </a:solidFill>
                <a:uFillTx/>
                <a:latin typeface="Constantia"/>
              </a:rPr>
              <a:t>Note</a:t>
            </a:r>
            <a:r>
              <a:rPr b="1" lang="en-US" sz="1600" spc="-1" strike="noStrike">
                <a:solidFill>
                  <a:srgbClr val="60b5cc"/>
                </a:solidFill>
                <a:latin typeface="Constantia"/>
              </a:rPr>
              <a:t>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Constanti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in Col &amp; Row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ax Row = Row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ax Col  = Column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ize of array = col x row x siz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0b5cc"/>
                </a:solidFill>
                <a:uFillTx/>
                <a:latin typeface="Constantia"/>
              </a:rPr>
              <a:t>Important</a:t>
            </a:r>
            <a:r>
              <a:rPr b="1" lang="en-US" sz="1600" spc="-1" strike="noStrike">
                <a:solidFill>
                  <a:srgbClr val="60b5cc"/>
                </a:solidFill>
                <a:latin typeface="Constant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the name of the array is used with only 1 index specifying the row, it refers to the address of the first element of the 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8"/>
          <p:cNvGrpSpPr/>
          <p:nvPr/>
        </p:nvGrpSpPr>
        <p:grpSpPr>
          <a:xfrm>
            <a:off x="1752480" y="4257720"/>
            <a:ext cx="4038840" cy="1839960"/>
            <a:chOff x="1752480" y="4257720"/>
            <a:chExt cx="4038840" cy="1839960"/>
          </a:xfrm>
        </p:grpSpPr>
        <p:grpSp>
          <p:nvGrpSpPr>
            <p:cNvPr id="304" name="Group 21"/>
            <p:cNvGrpSpPr/>
            <p:nvPr/>
          </p:nvGrpSpPr>
          <p:grpSpPr>
            <a:xfrm>
              <a:off x="3276720" y="4948200"/>
              <a:ext cx="1833480" cy="368280"/>
              <a:chOff x="3276720" y="4948200"/>
              <a:chExt cx="1833480" cy="368280"/>
            </a:xfrm>
          </p:grpSpPr>
          <p:sp>
            <p:nvSpPr>
              <p:cNvPr id="305" name="Text Box 9"/>
              <p:cNvSpPr/>
              <p:nvPr/>
            </p:nvSpPr>
            <p:spPr>
              <a:xfrm>
                <a:off x="3276720" y="494820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10"/>
              <p:cNvSpPr/>
              <p:nvPr/>
            </p:nvSpPr>
            <p:spPr>
              <a:xfrm>
                <a:off x="3728880" y="494820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1"/>
              <p:cNvSpPr/>
              <p:nvPr/>
            </p:nvSpPr>
            <p:spPr>
              <a:xfrm>
                <a:off x="4186080" y="494820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12"/>
              <p:cNvSpPr/>
              <p:nvPr/>
            </p:nvSpPr>
            <p:spPr>
              <a:xfrm>
                <a:off x="4648320" y="494820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3"/>
            <p:cNvSpPr/>
            <p:nvPr/>
          </p:nvSpPr>
          <p:spPr>
            <a:xfrm>
              <a:off x="2057400" y="4257720"/>
              <a:ext cx="373392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nstantia"/>
                </a:rPr>
                <a:t>Column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0         1         2       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22"/>
            <p:cNvGrpSpPr/>
            <p:nvPr/>
          </p:nvGrpSpPr>
          <p:grpSpPr>
            <a:xfrm>
              <a:off x="3276720" y="5334120"/>
              <a:ext cx="1833480" cy="368280"/>
              <a:chOff x="3276720" y="5334120"/>
              <a:chExt cx="1833480" cy="368280"/>
            </a:xfrm>
          </p:grpSpPr>
          <p:sp>
            <p:nvSpPr>
              <p:cNvPr id="311" name="Text Box 23"/>
              <p:cNvSpPr/>
              <p:nvPr/>
            </p:nvSpPr>
            <p:spPr>
              <a:xfrm>
                <a:off x="3276720" y="533412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4"/>
              <p:cNvSpPr/>
              <p:nvPr/>
            </p:nvSpPr>
            <p:spPr>
              <a:xfrm>
                <a:off x="3728880" y="533412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4186080" y="533412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26"/>
              <p:cNvSpPr/>
              <p:nvPr/>
            </p:nvSpPr>
            <p:spPr>
              <a:xfrm>
                <a:off x="4648320" y="533412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8"/>
            <p:cNvGrpSpPr/>
            <p:nvPr/>
          </p:nvGrpSpPr>
          <p:grpSpPr>
            <a:xfrm>
              <a:off x="3276720" y="5719680"/>
              <a:ext cx="1833480" cy="368280"/>
              <a:chOff x="3276720" y="5719680"/>
              <a:chExt cx="1833480" cy="368280"/>
            </a:xfrm>
          </p:grpSpPr>
          <p:sp>
            <p:nvSpPr>
              <p:cNvPr id="316" name="Text Box 29"/>
              <p:cNvSpPr/>
              <p:nvPr/>
            </p:nvSpPr>
            <p:spPr>
              <a:xfrm>
                <a:off x="3276720" y="571968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30"/>
              <p:cNvSpPr/>
              <p:nvPr/>
            </p:nvSpPr>
            <p:spPr>
              <a:xfrm>
                <a:off x="3728880" y="571968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31"/>
              <p:cNvSpPr/>
              <p:nvPr/>
            </p:nvSpPr>
            <p:spPr>
              <a:xfrm>
                <a:off x="4186080" y="5719680"/>
                <a:ext cx="4622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32"/>
              <p:cNvSpPr/>
              <p:nvPr/>
            </p:nvSpPr>
            <p:spPr>
              <a:xfrm>
                <a:off x="4648320" y="5719680"/>
                <a:ext cx="461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33"/>
            <p:cNvSpPr/>
            <p:nvPr/>
          </p:nvSpPr>
          <p:spPr>
            <a:xfrm>
              <a:off x="2819520" y="49831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35"/>
            <p:cNvSpPr/>
            <p:nvPr/>
          </p:nvSpPr>
          <p:spPr>
            <a:xfrm>
              <a:off x="2819520" y="54100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36"/>
            <p:cNvSpPr/>
            <p:nvPr/>
          </p:nvSpPr>
          <p:spPr>
            <a:xfrm>
              <a:off x="2819520" y="582120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7"/>
            <p:cNvSpPr/>
            <p:nvPr/>
          </p:nvSpPr>
          <p:spPr>
            <a:xfrm>
              <a:off x="175248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tantia"/>
                </a:rPr>
                <a:t>R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39"/>
          <p:cNvSpPr/>
          <p:nvPr/>
        </p:nvSpPr>
        <p:spPr>
          <a:xfrm>
            <a:off x="914400" y="3886200"/>
            <a:ext cx="2438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Data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= num[0][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Address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= &amp;num[0][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or num[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2514600" y="40384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wo Dimensional Arr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2B6-0774-4573-87D3-0A3EED136E2C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286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523880"/>
          <a:ext cx="8001000" cy="4572000"/>
        </p:xfrm>
        <a:graphic>
          <a:graphicData uri="http://schemas.openxmlformats.org/drawingml/2006/table">
            <a:tbl>
              <a:tblPr/>
              <a:tblGrid>
                <a:gridCol w="501480"/>
                <a:gridCol w="2135520"/>
                <a:gridCol w="2817720"/>
                <a:gridCol w="436320"/>
                <a:gridCol w="2109960"/>
              </a:tblGrid>
              <a:tr h="62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Program : Fill a Two-dimensional Ar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* Filename: Function1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Description: Ask 6 integers and place it in a 2x3 arra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r: Pedro de la Cru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Written: May 29,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Outpu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a number: 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0b5cc"/>
                    </a:solidFill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clude&lt;stdio.h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main(voi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int x[2][3]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row, col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row=0; row&lt;3; row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(col=0; col&lt;2; col++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printf(“Enter a number: “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f(“%d”, &amp;num[row][col]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2" name="Rectangle 2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wo Dimensional Arr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05F-CA9F-459A-8F38-F49E066CDB28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f0ad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ultidimensional arrays can have three, four or more dimens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f0ad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ample:  3-Dimensional Arr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86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81"/>
          <p:cNvGrpSpPr/>
          <p:nvPr/>
        </p:nvGrpSpPr>
        <p:grpSpPr>
          <a:xfrm>
            <a:off x="1219320" y="3048120"/>
            <a:ext cx="3047760" cy="3187800"/>
            <a:chOff x="1219320" y="3048120"/>
            <a:chExt cx="3047760" cy="3187800"/>
          </a:xfrm>
        </p:grpSpPr>
        <p:grpSp>
          <p:nvGrpSpPr>
            <p:cNvPr id="338" name="Group 77"/>
            <p:cNvGrpSpPr/>
            <p:nvPr/>
          </p:nvGrpSpPr>
          <p:grpSpPr>
            <a:xfrm>
              <a:off x="1219320" y="3048120"/>
              <a:ext cx="3047760" cy="3187800"/>
              <a:chOff x="1219320" y="3048120"/>
              <a:chExt cx="3047760" cy="3187800"/>
            </a:xfrm>
          </p:grpSpPr>
          <p:grpSp>
            <p:nvGrpSpPr>
              <p:cNvPr id="339" name="Group 43"/>
              <p:cNvGrpSpPr/>
              <p:nvPr/>
            </p:nvGrpSpPr>
            <p:grpSpPr>
              <a:xfrm>
                <a:off x="1219320" y="3886200"/>
                <a:ext cx="1904400" cy="2349720"/>
                <a:chOff x="1219320" y="3886200"/>
                <a:chExt cx="1904400" cy="2349720"/>
              </a:xfrm>
            </p:grpSpPr>
            <p:grpSp>
              <p:nvGrpSpPr>
                <p:cNvPr id="340" name="Group 37"/>
                <p:cNvGrpSpPr/>
                <p:nvPr/>
              </p:nvGrpSpPr>
              <p:grpSpPr>
                <a:xfrm>
                  <a:off x="1219320" y="3886200"/>
                  <a:ext cx="1904040" cy="1906560"/>
                  <a:chOff x="1219320" y="3886200"/>
                  <a:chExt cx="1904040" cy="1906560"/>
                </a:xfrm>
              </p:grpSpPr>
              <p:grpSp>
                <p:nvGrpSpPr>
                  <p:cNvPr id="341" name="Group 11"/>
                  <p:cNvGrpSpPr/>
                  <p:nvPr/>
                </p:nvGrpSpPr>
                <p:grpSpPr>
                  <a:xfrm>
                    <a:off x="1600200" y="5029200"/>
                    <a:ext cx="1523160" cy="368280"/>
                    <a:chOff x="1600200" y="5029200"/>
                    <a:chExt cx="1523160" cy="368280"/>
                  </a:xfrm>
                </p:grpSpPr>
                <p:sp>
                  <p:nvSpPr>
                    <p:cNvPr id="342" name="Text Box 6"/>
                    <p:cNvSpPr/>
                    <p:nvPr/>
                  </p:nvSpPr>
                  <p:spPr>
                    <a:xfrm>
                      <a:off x="1600200" y="5029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Text Box 7"/>
                    <p:cNvSpPr/>
                    <p:nvPr/>
                  </p:nvSpPr>
                  <p:spPr>
                    <a:xfrm>
                      <a:off x="1980720" y="5029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Text Box 8"/>
                    <p:cNvSpPr/>
                    <p:nvPr/>
                  </p:nvSpPr>
                  <p:spPr>
                    <a:xfrm>
                      <a:off x="2361600" y="5029200"/>
                      <a:ext cx="38088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Text Box 9"/>
                    <p:cNvSpPr/>
                    <p:nvPr/>
                  </p:nvSpPr>
                  <p:spPr>
                    <a:xfrm>
                      <a:off x="2742840" y="5029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12"/>
                  <p:cNvGrpSpPr/>
                  <p:nvPr/>
                </p:nvGrpSpPr>
                <p:grpSpPr>
                  <a:xfrm>
                    <a:off x="1600200" y="4648320"/>
                    <a:ext cx="1523160" cy="368280"/>
                    <a:chOff x="1600200" y="4648320"/>
                    <a:chExt cx="1523160" cy="368280"/>
                  </a:xfrm>
                </p:grpSpPr>
                <p:sp>
                  <p:nvSpPr>
                    <p:cNvPr id="347" name="Text Box 13"/>
                    <p:cNvSpPr/>
                    <p:nvPr/>
                  </p:nvSpPr>
                  <p:spPr>
                    <a:xfrm>
                      <a:off x="1600200" y="46483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Text Box 14"/>
                    <p:cNvSpPr/>
                    <p:nvPr/>
                  </p:nvSpPr>
                  <p:spPr>
                    <a:xfrm>
                      <a:off x="1980720" y="46483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Text Box 15"/>
                    <p:cNvSpPr/>
                    <p:nvPr/>
                  </p:nvSpPr>
                  <p:spPr>
                    <a:xfrm>
                      <a:off x="2361600" y="4648320"/>
                      <a:ext cx="38088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Text Box 16"/>
                    <p:cNvSpPr/>
                    <p:nvPr/>
                  </p:nvSpPr>
                  <p:spPr>
                    <a:xfrm>
                      <a:off x="2742840" y="46483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7"/>
                  <p:cNvGrpSpPr/>
                  <p:nvPr/>
                </p:nvGrpSpPr>
                <p:grpSpPr>
                  <a:xfrm>
                    <a:off x="1600200" y="4267080"/>
                    <a:ext cx="1523160" cy="368280"/>
                    <a:chOff x="1600200" y="4267080"/>
                    <a:chExt cx="1523160" cy="368280"/>
                  </a:xfrm>
                </p:grpSpPr>
                <p:sp>
                  <p:nvSpPr>
                    <p:cNvPr id="352" name="Text Box 18"/>
                    <p:cNvSpPr/>
                    <p:nvPr/>
                  </p:nvSpPr>
                  <p:spPr>
                    <a:xfrm>
                      <a:off x="1600200" y="426708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Text Box 19"/>
                    <p:cNvSpPr/>
                    <p:nvPr/>
                  </p:nvSpPr>
                  <p:spPr>
                    <a:xfrm>
                      <a:off x="1980720" y="426708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Text Box 20"/>
                    <p:cNvSpPr/>
                    <p:nvPr/>
                  </p:nvSpPr>
                  <p:spPr>
                    <a:xfrm>
                      <a:off x="2361600" y="4267080"/>
                      <a:ext cx="38088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Text Box 21"/>
                    <p:cNvSpPr/>
                    <p:nvPr/>
                  </p:nvSpPr>
                  <p:spPr>
                    <a:xfrm>
                      <a:off x="2742840" y="426708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22"/>
                  <p:cNvGrpSpPr/>
                  <p:nvPr/>
                </p:nvGrpSpPr>
                <p:grpSpPr>
                  <a:xfrm>
                    <a:off x="1600200" y="5415120"/>
                    <a:ext cx="1523160" cy="368280"/>
                    <a:chOff x="1600200" y="5415120"/>
                    <a:chExt cx="1523160" cy="368280"/>
                  </a:xfrm>
                </p:grpSpPr>
                <p:sp>
                  <p:nvSpPr>
                    <p:cNvPr id="357" name="Text Box 23"/>
                    <p:cNvSpPr/>
                    <p:nvPr/>
                  </p:nvSpPr>
                  <p:spPr>
                    <a:xfrm>
                      <a:off x="1600200" y="54151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Text Box 24"/>
                    <p:cNvSpPr/>
                    <p:nvPr/>
                  </p:nvSpPr>
                  <p:spPr>
                    <a:xfrm>
                      <a:off x="1980720" y="54151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Text Box 25"/>
                    <p:cNvSpPr/>
                    <p:nvPr/>
                  </p:nvSpPr>
                  <p:spPr>
                    <a:xfrm>
                      <a:off x="2361600" y="5415120"/>
                      <a:ext cx="38088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Text Box 26"/>
                    <p:cNvSpPr/>
                    <p:nvPr/>
                  </p:nvSpPr>
                  <p:spPr>
                    <a:xfrm>
                      <a:off x="2742840" y="541512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27"/>
                  <p:cNvGrpSpPr/>
                  <p:nvPr/>
                </p:nvGrpSpPr>
                <p:grpSpPr>
                  <a:xfrm>
                    <a:off x="1600200" y="3886200"/>
                    <a:ext cx="1523160" cy="368280"/>
                    <a:chOff x="1600200" y="3886200"/>
                    <a:chExt cx="1523160" cy="368280"/>
                  </a:xfrm>
                </p:grpSpPr>
                <p:sp>
                  <p:nvSpPr>
                    <p:cNvPr id="362" name="Text Box 28"/>
                    <p:cNvSpPr/>
                    <p:nvPr/>
                  </p:nvSpPr>
                  <p:spPr>
                    <a:xfrm>
                      <a:off x="1600200" y="3886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Text Box 29"/>
                    <p:cNvSpPr/>
                    <p:nvPr/>
                  </p:nvSpPr>
                  <p:spPr>
                    <a:xfrm>
                      <a:off x="1980720" y="3886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Text Box 30"/>
                    <p:cNvSpPr/>
                    <p:nvPr/>
                  </p:nvSpPr>
                  <p:spPr>
                    <a:xfrm>
                      <a:off x="2361600" y="3886200"/>
                      <a:ext cx="38088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Text Box 31"/>
                    <p:cNvSpPr/>
                    <p:nvPr/>
                  </p:nvSpPr>
                  <p:spPr>
                    <a:xfrm>
                      <a:off x="2742840" y="3886200"/>
                      <a:ext cx="380520" cy="368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Text Box 32"/>
                  <p:cNvSpPr/>
                  <p:nvPr/>
                </p:nvSpPr>
                <p:spPr>
                  <a:xfrm>
                    <a:off x="1219320" y="3886200"/>
                    <a:ext cx="30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nstantia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 Box 33"/>
                  <p:cNvSpPr/>
                  <p:nvPr/>
                </p:nvSpPr>
                <p:spPr>
                  <a:xfrm>
                    <a:off x="1219320" y="4343400"/>
                    <a:ext cx="30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nstantia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 Box 34"/>
                  <p:cNvSpPr/>
                  <p:nvPr/>
                </p:nvSpPr>
                <p:spPr>
                  <a:xfrm>
                    <a:off x="1219320" y="4738680"/>
                    <a:ext cx="30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nstantia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 Box 35"/>
                  <p:cNvSpPr/>
                  <p:nvPr/>
                </p:nvSpPr>
                <p:spPr>
                  <a:xfrm>
                    <a:off x="1219320" y="5043600"/>
                    <a:ext cx="30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nstantia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 Box 36"/>
                  <p:cNvSpPr/>
                  <p:nvPr/>
                </p:nvSpPr>
                <p:spPr>
                  <a:xfrm>
                    <a:off x="1219320" y="5424480"/>
                    <a:ext cx="30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nstantia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Text Box 39"/>
                <p:cNvSpPr/>
                <p:nvPr/>
              </p:nvSpPr>
              <p:spPr>
                <a:xfrm>
                  <a:off x="1676160" y="5867640"/>
                  <a:ext cx="3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40"/>
                <p:cNvSpPr/>
                <p:nvPr/>
              </p:nvSpPr>
              <p:spPr>
                <a:xfrm>
                  <a:off x="2057400" y="5867640"/>
                  <a:ext cx="30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41"/>
                <p:cNvSpPr/>
                <p:nvPr/>
              </p:nvSpPr>
              <p:spPr>
                <a:xfrm>
                  <a:off x="2438280" y="5867640"/>
                  <a:ext cx="3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Text Box 42"/>
                <p:cNvSpPr/>
                <p:nvPr/>
              </p:nvSpPr>
              <p:spPr>
                <a:xfrm>
                  <a:off x="2819160" y="5867640"/>
                  <a:ext cx="3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Line 46"/>
              <p:cNvSpPr/>
              <p:nvPr/>
            </p:nvSpPr>
            <p:spPr>
              <a:xfrm>
                <a:off x="3504960" y="358164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50"/>
              <p:cNvSpPr/>
              <p:nvPr/>
            </p:nvSpPr>
            <p:spPr>
              <a:xfrm flipH="1">
                <a:off x="3885840" y="3305160"/>
                <a:ext cx="47520" cy="19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51"/>
              <p:cNvSpPr/>
              <p:nvPr/>
            </p:nvSpPr>
            <p:spPr>
              <a:xfrm>
                <a:off x="4267080" y="3060720"/>
                <a:ext cx="0" cy="19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53"/>
              <p:cNvSpPr/>
              <p:nvPr/>
            </p:nvSpPr>
            <p:spPr>
              <a:xfrm flipV="1">
                <a:off x="1599840" y="3048120"/>
                <a:ext cx="1218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54"/>
              <p:cNvSpPr/>
              <p:nvPr/>
            </p:nvSpPr>
            <p:spPr>
              <a:xfrm flipV="1">
                <a:off x="3124080" y="3048120"/>
                <a:ext cx="114264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55"/>
              <p:cNvSpPr/>
              <p:nvPr/>
            </p:nvSpPr>
            <p:spPr>
              <a:xfrm flipV="1">
                <a:off x="1981080" y="3048120"/>
                <a:ext cx="121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56"/>
              <p:cNvSpPr/>
              <p:nvPr/>
            </p:nvSpPr>
            <p:spPr>
              <a:xfrm flipV="1">
                <a:off x="2361960" y="3048120"/>
                <a:ext cx="1218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57"/>
              <p:cNvSpPr/>
              <p:nvPr/>
            </p:nvSpPr>
            <p:spPr>
              <a:xfrm flipV="1">
                <a:off x="2742840" y="3048120"/>
                <a:ext cx="1218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0"/>
              <p:cNvSpPr/>
              <p:nvPr/>
            </p:nvSpPr>
            <p:spPr>
              <a:xfrm>
                <a:off x="2057040" y="358164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64"/>
              <p:cNvSpPr/>
              <p:nvPr/>
            </p:nvSpPr>
            <p:spPr>
              <a:xfrm>
                <a:off x="2514240" y="32767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67"/>
              <p:cNvSpPr/>
              <p:nvPr/>
            </p:nvSpPr>
            <p:spPr>
              <a:xfrm>
                <a:off x="2819160" y="30481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68"/>
              <p:cNvSpPr/>
              <p:nvPr/>
            </p:nvSpPr>
            <p:spPr>
              <a:xfrm flipV="1">
                <a:off x="3124080" y="3428640"/>
                <a:ext cx="114264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71"/>
              <p:cNvSpPr/>
              <p:nvPr/>
            </p:nvSpPr>
            <p:spPr>
              <a:xfrm flipV="1">
                <a:off x="3124080" y="3733920"/>
                <a:ext cx="11426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74"/>
              <p:cNvSpPr/>
              <p:nvPr/>
            </p:nvSpPr>
            <p:spPr>
              <a:xfrm flipV="1">
                <a:off x="3124080" y="4191120"/>
                <a:ext cx="114264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75"/>
              <p:cNvSpPr/>
              <p:nvPr/>
            </p:nvSpPr>
            <p:spPr>
              <a:xfrm flipV="1">
                <a:off x="3124080" y="4496040"/>
                <a:ext cx="11426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76"/>
              <p:cNvSpPr/>
              <p:nvPr/>
            </p:nvSpPr>
            <p:spPr>
              <a:xfrm flipV="1">
                <a:off x="3124080" y="5028840"/>
                <a:ext cx="114264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Text Box 78"/>
            <p:cNvSpPr/>
            <p:nvPr/>
          </p:nvSpPr>
          <p:spPr>
            <a:xfrm>
              <a:off x="3276720" y="5562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79"/>
            <p:cNvSpPr/>
            <p:nvPr/>
          </p:nvSpPr>
          <p:spPr>
            <a:xfrm>
              <a:off x="358128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80"/>
            <p:cNvSpPr/>
            <p:nvPr/>
          </p:nvSpPr>
          <p:spPr>
            <a:xfrm>
              <a:off x="3962520" y="5105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82"/>
          <p:cNvSpPr/>
          <p:nvPr/>
        </p:nvSpPr>
        <p:spPr>
          <a:xfrm>
            <a:off x="533520" y="441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3200400" y="5943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4495680" y="4724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4419720" y="2743200"/>
            <a:ext cx="44193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&lt;data_type&gt; array_name[plane][row][colum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6"/>
          <p:cNvSpPr/>
          <p:nvPr/>
        </p:nvSpPr>
        <p:spPr>
          <a:xfrm>
            <a:off x="5410080" y="3581280"/>
            <a:ext cx="25146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nt table[3][5][4]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    {  /*Plane 0*/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0,1,2,3},               /*Row 0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1,2,3,4},               /*Row 1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3,4,5,6},              /*Row 2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4,5,6,7},               /*Row 3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{5,6,7,8},               /*Row 4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ulti-Dimensional Arr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3:44:40Z</dcterms:created>
  <dc:creator>kim</dc:creator>
  <dc:description/>
  <dc:language>en-US</dc:language>
  <cp:lastModifiedBy>kimberly n. villaver</cp:lastModifiedBy>
  <dcterms:modified xsi:type="dcterms:W3CDTF">2004-08-21T04:40:41Z</dcterms:modified>
  <cp:revision>91</cp:revision>
  <dc:subject/>
  <dc:title>C  Programming</dc:title>
</cp:coreProperties>
</file>